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9.jpeg" ContentType="image/jpe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1751-C066-4834-9470-628160473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1CE1-A3E7-4D4C-B593-66BA55C0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29FFDF-AF90-4E50-A5E5-A3AD2A0C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45C389-95A2-4083-9036-ABCA36D3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C8EA42-EF40-45CC-A43C-64BA7841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F51C5-DC20-40CE-8BF1-E8193253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E44E9A-4176-418E-B6B0-A27E4E6D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6FF503-81D3-41D1-BFE9-350761CC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5B67C8-95F5-4B90-8BEA-146591E6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72FAE6-557B-4EB8-93DD-DD31A10E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B0A71C-EAA5-42F9-804D-490D3C5463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C9F17-4E63-4FA4-AFFC-42C4B2D2EA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86B2-BC8B-4A53-9F40-65F7A3D5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C74BA-09F6-4295-9546-C0FB45DC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D2ABE-0E83-427B-BDA8-681402B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08093-EC12-46A5-ABDB-B218B0AA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51DF5-9EEA-4838-BF28-12584890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3EF65-8B88-4AC9-AEA3-761C416F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22708-7571-48AB-9B87-E92367AD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D88AA-2749-4195-B4AF-D3B2CFEB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8C11-E123-4582-B142-4762BAF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C777-006E-4E39-9FF6-B3D76563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7197E-21A0-46FC-8DF9-46D8678D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5B2A-3197-48BB-A26F-59AF6EE309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AE71-2594-43A4-8334-1990880FC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17DA8-AAE3-4AE8-9700-681BA2758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C69B2-350F-4812-B813-8CE57029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10BD6-0F7F-4A37-AAE2-672B543A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C7EB1-8F05-46D5-804F-3180D6E1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275A4E-7B06-451A-B41F-45B8DD05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380A82-A26E-4A17-A222-6E4F6973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0E71E-95D0-4E1D-9EBC-CE28DDF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75C02C-700F-4508-BDFB-3F8AF9ED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DDEB0C-4295-4989-B0DA-F0F47DD5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29216-C774-459D-9206-4898FA84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3016C1-433C-4B32-9C5F-C7BBF711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89D93D-81B3-436B-8CAF-DE87397F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38F3D-BE83-4EF4-B8F1-1C0C9DEAB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FAE39-6DA3-440E-990A-91654F5024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36A46-6ED4-4939-9BA2-B0870953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BFD16-BAE8-4C59-82D1-97B65AA0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A104B-C1D0-49DE-8BB1-522FB89A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EAE8F-A9A3-4134-8723-39D3AF86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07AE3-151F-4330-B04C-1F95C4B4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A148A-3614-4ACB-B7A9-0AFE04A1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0DBCE-6D8A-49E1-AB57-66160137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89581-95DB-403F-A89D-9A676BAA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732D9-15DC-410D-9390-483764AD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DBFEE-436F-4FB9-A674-683993A9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BB819-3AE9-4AAD-B523-51AE19DE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F1BD2-1250-4BBF-A0FD-2F9425A32A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9BBCB-5F6A-4A1C-9908-A0964731D3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4EF41-63F9-416F-B82D-4D2A3B0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D6684-5DDC-41FC-B4ED-7D432AA3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0AB2-51AB-428F-AB9A-5630920F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66478-D06E-4D7A-B19A-BAAE1353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8A4B2-BFBB-4371-A92E-6EC3B96C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93584-116A-4D98-A58E-20DA33F8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7C444-EAFD-41EA-AB2C-59EE0F27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A143E-EDDD-4AA5-83AF-9BB522C6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D2128-564F-4D03-9503-96522A14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0F6C6-6E05-4678-BA35-190F8C6A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894B5-72AF-43D9-979C-E6C4EFE4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1CFDF-20A2-4EAF-B646-422C9B2B7A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88580-B31D-4B5F-99F0-0F47F86C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36A64-E0DA-4717-92C9-791D40BA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4897B-4E69-42EF-B3CF-D3ED006B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C00DD-D6C2-42EC-8317-19914614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D139D-76A4-434A-9184-CE279909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85B8E-EFED-46BB-8E3A-FD17FC47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79FB9-6301-4BB6-9EF2-A5AD6337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214C8-4070-40E8-9EAC-F0C66E30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CF545-8F79-4D34-B95D-93A03A5E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FF000-E68F-4477-A54B-D68B09A4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2C6CB-9F54-4E68-9836-4F7F7DF5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300C6-4E91-4502-BF43-852996B3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63397-7663-490E-80F9-E70D7C1B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88E6C-2A7A-402B-A7C1-1EA1D48E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F8BC1-DCE4-4F41-818D-A461D6C9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58963-A4D3-432E-A4F2-6E043E99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199A7-4ACD-47C6-8570-F974BB9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EABA3-8CF2-424A-A0DE-68441249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450A2-5E5B-438D-B8D2-E0E2FBFC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AACE5-7300-431F-87A0-AF12659A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3C5E6-FDCB-4F52-B1B7-5DE2C656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7162C-D40B-4753-BB85-FF5A1FC2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16765-09B0-408B-B7CB-4BA4B28B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8A4C0-9993-4560-B9E0-F57B1E0E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F440D-0529-4A0B-906A-E8ED6650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04A6-9C7C-4341-BBBD-DA30B77A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4EE21-A4D4-4702-8DF6-F1447C73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A4288-AD5E-4660-B54D-BF7088CE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0822C-AA7A-4BF7-B152-EFC2A6FC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6B5AD-1C1C-4BB0-8C21-9267A347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0BBC1-A0AF-4FAC-8A22-026A6309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6B266-94AD-4173-831C-4F71831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67D37-DD06-4A60-B9AA-2ABC105A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5E1F9-53B3-4027-A52C-58977CC6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1993F-7412-419C-A12A-BAB2E3D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DA56A-84BC-48B1-8939-BC052DC1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966C7-041F-490E-B63F-7AB7118B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21C17-69FB-4F33-BF12-2093502A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E7330-F121-4BCA-BA0B-90DA0335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E9F03-A09F-46CF-9E12-D07094C7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8A19A-3849-4C2A-A5BC-D5AC18D2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D8E43-FE10-49CE-843D-1ED70BE8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19439-F4B9-4FE1-B9AC-84234550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0317B-87A6-4CFE-9A38-588AF608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EAB67-CFAD-49D2-8F16-81325FE6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93A6A-39F1-4E41-9D6B-BFC5F798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5B765-2097-48B6-B1CA-B93F6451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9855-C386-47AC-9072-26944AAD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D54A7-BBD4-4F91-94F1-888371C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B7807-9DC5-4870-B2EC-C0D19C5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5D214-78E9-4F0E-A37B-8DB5572F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38D50-527A-4D6A-B309-0373ECF5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67A11-FD35-47EC-AF23-24F164F7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C4B45-9BE7-4BEB-B5BE-630AE192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6DB03-1A1D-40A8-A1A0-AF30945E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A48B5-C571-48F2-AAE8-9AF7480F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E16D6-A501-48D0-B416-97EDB02E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7A868-E5F0-4205-A088-E29498F3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558B0-8949-4832-8907-A03B9BE0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CA5F4-9CD0-4212-BC86-41CE19D5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D5FE4-F1F9-4901-952F-AFAF524A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DD19D-F66E-4459-BE4B-9D0787A2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F319C-0854-4868-9BA9-CB26F91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CD14C-3CC1-45AE-8023-3BD332BE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E2E91-DB62-4774-A984-3217734B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399A7-69C6-4727-A532-F02A197A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78D15-9AF7-465C-92D1-304D0794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CDE68-6D33-4D65-A58A-BDAA427F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B16FE-8028-4E83-BEB2-AA5FE204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070EC-5373-4DD3-92C4-D121999C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BD5CB-A9E4-489D-8868-635CEBFF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FD220-FD60-4CE8-BDE6-CDF7543C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A74D7-7058-4153-81BB-D9E3E43C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EB280-D910-49C0-89B6-28660291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C2755-92C8-4EDF-8F33-29AB5380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6E97A-65E9-43CA-9D67-DF0DEF3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9A99F-2524-4E9A-AE2A-24DA0C3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E1DE6-ECF2-4043-B4AC-896DDEE7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FC8E9-B4E9-4E3F-8D9D-7E8CB4D0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67281-E08C-4901-A4E9-329F20A4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CFEF1-A7BA-428D-95E5-78A33A32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2B9D5-C698-42F8-9552-ECCC9F2C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4071F-011B-4356-90E8-2CE1107F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D5018-32EB-41CC-AC30-F035B01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98EB8-2B9A-47AD-BA3A-9A45BBEE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74523-6EC1-4283-B8DB-FDC31F48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086DB-8F0A-4713-9ECE-9D8A631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00A0D-A8B9-4B44-8A36-8C60AC85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DBDA4-E380-48C6-A8C9-2B20239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89941-54F0-40DB-9747-C4F85EA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47623-9AFB-4036-BB6B-C5E5B180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D3977-4CF1-4FA0-A5A2-18EC11D6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2A27F-06D1-4584-9D22-87532BC4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67E07-4DA4-489C-9CEA-5DDD0C89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A1F44-A701-4CAB-8579-777853D0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060DA-513D-4129-9C2B-B72B687E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938A0-E410-4D1E-8B5D-93E4F094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56B16-330A-4071-82A8-6B1201E4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CB066-2771-4EF4-9910-9AB7E7A6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240F8-8380-42BC-BB64-93ADF00D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DD4E2-539B-464A-8B4C-B68CCDD3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E0CD7-5C33-4763-A7A2-EC6F650B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52C00-66CB-41B4-9040-E82B0630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5D541F-6DE9-4D05-B752-93A4B9378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BE7F5-DF05-4C82-94F9-C7880A6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87FABB-2082-4982-A32C-6D1C6F8D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998ED-BAD2-4131-867C-9E8A9608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FBA72-AB0D-4EF7-9AA6-BB377510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5A6A6-CB3B-4004-BC0B-020E718C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ECBF4-865C-4214-9008-544FCB89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734F1-4C7F-49C5-B140-82383972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5E857-2940-487A-B8B0-2010F57F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4700D-FA52-49F7-B91E-35D6EE3E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EAFBB-9C98-4662-B1BC-0C885AF5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F1780-5FD2-4EAC-99D4-0EC2706C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E7434-E94F-42F8-9964-95109F2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FB475-740A-4837-B49C-E89EF0A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0203F-F554-4193-89FE-3F57C87B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0B44E-5EDF-4BF2-9A8C-9B5F6A7D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101DE-F492-4142-8179-86CF5887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C8F18-9268-43BF-BA46-835B9D6B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51B03-C919-4BE4-B1B4-41E831B6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D3898-AFC2-48F5-A6BA-D8594260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5C0D6-E86A-4E14-8506-E37443C1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195125-EAD4-4451-A9B3-141A0C95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58E18-6974-4FC8-BC4F-5EDEB0DE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EF858-FC32-4D6E-9BD4-2436AF4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352EE-96E5-4BA6-8975-15B9867D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CC4F9-86A3-40A6-AC63-10D33E49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06A1A2-EFE5-4EE3-AC60-0650D0BD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F0ED21-AB13-4D56-B301-3630128D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2762D-2AB0-4C13-8928-2CC335FF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43C4A-D838-4690-82C5-610EF6DE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7C2C98-E515-4C55-A8DF-02060584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0564F-862C-4D36-B61A-2D9159E6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052E0-06CD-4275-9DFF-19CDA4E6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C23FF-C74E-4020-9188-8D4BB201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E832B-9FBA-450D-83FB-D6BCAC95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07C403-8A08-40DF-B6AB-8AE6BFCB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42BC2-0E95-4AF2-B036-353B101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F54B9-CC75-4A2D-9798-C1D6DA27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E91F1D-98A1-41E6-8E94-3872F072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7DC74-FEBF-43F3-9C58-1FE5B348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2EBAB-FB1D-463B-A243-47A69C8C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2D801-9AB6-432F-AEAF-AE395DD2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47B19-4172-4EC7-8838-71C7F373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5B709-1F3B-4BC9-9A1F-E8507FD7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CA1D-20E2-4325-9186-E9ADCAA4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B3B73-4F54-4B21-8B65-D2C63630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643F6-C763-4B23-AADF-4D071439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BFC21-93F4-4991-9CFC-0AEBD477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6A26E-55E1-48A9-9215-81497884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99A5B-758F-4438-8326-06C5DF73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93FD3-F5B7-4744-9A92-064AAB4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7E4CA-FCFF-4937-AF56-AA1C9CFF6D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DF78-74AA-45E6-9C73-422D127221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990C-0AD3-4CAB-9CE0-3D9CC7E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4F05-390B-4DE9-B4FD-7F96CD4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EA6B-C55A-45DF-85FC-A3842066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51EB-4E9F-4BA1-BF9E-05039815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4177-D92E-45A4-BFAD-12F2B2A9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4E05-2CB1-463A-8868-31A5A2DB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7E0B-63A1-426F-88C4-4990BEB1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5318-5C73-49B7-B723-903ADA64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DF19-BB1E-460D-A527-9492EA62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EC6C-A4D1-4BA1-B0BB-9B748B37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800E-9F3D-4F49-9C41-31A669B7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C8255-1F7F-4F17-9B2E-392F3212A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99B2A-E36E-41BD-A23F-82AA6F4DE8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A781-03CB-4C9D-A33C-3DF13B4F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4B89C-9705-4DC5-A16D-C9C0EDE1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02F9C-D895-48FB-874A-09B252A4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D84B7-0210-4029-9E9B-BEB02A09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CFCD7-8833-4B8D-8884-C69424AA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1EE4F-CC20-412C-BCA9-2A97EE45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7A9BF-13AC-4AF7-922A-BC151EEB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B979B-1E73-4462-94CE-E2CE8851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A4EFE-4992-48B0-8970-8EC7E05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AD387-524D-4456-9F86-A0D5E89C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0D791-DE7B-40F0-9396-8BC82C3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AB04-FD11-4F1A-9F0E-C0A625B3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2843D-1FC9-4ACA-B820-54B55F8985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325139-2AE2-4D64-8119-1A54EFFE0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108108-0B9C-4515-87FF-08C61AF5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FC2294-1D8C-40F6-8FB9-D762A0CB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F7F632-337C-421D-9B5F-8A265E05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82B51D-F76C-4004-936A-64E3C528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6BEC0D-2281-443B-9490-F5523BB8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67F54-2AB0-41B3-A9CC-7FDFE94F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807DFE-F91C-4AB8-A038-8D4BC3BA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464568-8CF8-46A1-9418-6BE0A52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28AC-39FB-42C6-99A8-30452529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AD977F-EC05-4E5E-9F8A-20598121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E9898A-71B8-4CC6-AA64-AA9DF5D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71C48-5FF1-4896-BBCB-2A7D7543B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2DBC0-49C0-4C84-88E4-21FC541C3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9E892-DC13-4D57-89EF-17F6516B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420E8-A78A-458C-AE99-9E72AA71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55426-9666-4174-B844-4E9EFFA9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2FA2-773B-466C-80BD-246EDCF0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38E8F-40FF-4DB0-95CE-49A4D7B5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DB78-B214-45F5-8D91-C23BE7F1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A451-2177-45DD-A07B-165E22E5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FB9B4-20FC-4332-949C-82CE30F3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06DE4-9A8C-40B4-A3AB-16BA3432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2A36-B201-4DD1-AA50-6FE685F8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B4F32-1CB4-4A56-8F36-CB9B9938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B1092-44DF-4FFE-8179-5AD4006CC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702AA-A8C9-49F4-9B9A-EC3BE5DDED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651D0-1B72-484D-A8E9-72F83EA7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63E07-573B-46BC-9B9C-D0DB7AF7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F77E4-0F53-4474-BDF9-1CDDDB78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7B2FD-6EBB-4109-93DA-FB11D823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CA36-3CD9-446F-A7D8-DE887C75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3BF90-07B2-4214-84CA-E3634126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0EAEC-5DCD-4CE6-904D-DF9670BB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8A85E-9803-41E9-B384-D2A5756A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50DD3-7768-4D9E-B777-C5BC91E7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5EB8D-BD62-46F5-BBE6-026A0F96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DC471-2217-4419-BBD6-57D7756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A8FFB-DF14-493B-8B5B-9DB21253CF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C67F76-B6D6-4083-A52B-2E54702AAC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1C3D2B-F955-4A52-A29D-5555B8EA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963A93-5174-4D77-8CD6-D8412FFF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029D-39A9-47C4-ADB9-A621FB9A42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FB04-5372-493B-A880-36FD139ABC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7AA9-B3C1-44DA-A420-E254EECC6F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7D4A-68AC-46D5-97F9-6A56CDD2EC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503-79B0-41CC-B41B-D0F4069FF5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995C-76E3-4B9A-AA69-02E7C92FCF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6423-58BB-4D9D-9344-50320BB761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DD62-8D72-4A03-BE2A-369C35BC29E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FFBE-7893-4573-9842-0CCC266BC74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3BE5-F4D1-4437-B7A6-2A49419BA6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7580-B0F8-4199-A84F-65A62DDB0AA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718-9DF7-44B7-9BBE-918A833048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01C2-A34C-43F8-9C04-623E1CA614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2EBF-BD46-4666-806E-26B1A603E0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A777-9E09-438D-9948-4A54CA3AB9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C79A-5CA2-44F8-B013-584032364D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F9FF-9892-43DC-A6B0-CEE3B128C7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E811-831D-4342-9963-3044E3322AB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0232-D58F-46D1-AE5E-0478A952C7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DE58-70B7-4A07-988F-24F9B18CAE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1E82-4233-4741-A53D-BDB46935F3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EAF8-E415-4650-AEE7-6F34998DDF5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2C8F-7904-4666-B3FC-6B154C9CA1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BE0F-26F6-422A-B5DA-B2AFDE36EA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778040" y="2924280"/>
            <a:ext cx="5572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33360" y="286236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长 度 单 位    认 识 时 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886040" y="173052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 复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23760" y="46080"/>
            <a:ext cx="3166920" cy="525600"/>
            <a:chOff x="-23760" y="46080"/>
            <a:chExt cx="3166920" cy="525600"/>
          </a:xfrm>
        </p:grpSpPr>
        <p:pic>
          <p:nvPicPr>
            <p:cNvPr id="99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22400" y="46080"/>
              <a:ext cx="3020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23760" y="141120"/>
              <a:ext cx="419400" cy="273960"/>
              <a:chOff x="-23760" y="141120"/>
              <a:chExt cx="419400" cy="273960"/>
            </a:xfrm>
          </p:grpSpPr>
          <p:sp>
            <p:nvSpPr>
              <p:cNvPr id="1001" name="椭圆 52"/>
              <p:cNvSpPr/>
              <p:nvPr/>
            </p:nvSpPr>
            <p:spPr>
              <a:xfrm rot="16200000">
                <a:off x="216720" y="30636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400" y="271080"/>
                <a:ext cx="21024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58"/>
              <p:cNvSpPr/>
              <p:nvPr/>
            </p:nvSpPr>
            <p:spPr>
              <a:xfrm rot="16200000">
                <a:off x="216720" y="18000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400" y="155880"/>
                <a:ext cx="210240" cy="1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87640"/>
                <a:ext cx="34632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58840"/>
                <a:ext cx="34632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9920"/>
                <a:ext cx="34632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46320" cy="101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642960" y="2604960"/>
            <a:ext cx="82152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和厘米之间的进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）厘米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）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）厘米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）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1714680" y="3365640"/>
            <a:ext cx="92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3"/>
          <p:cNvSpPr/>
          <p:nvPr/>
        </p:nvSpPr>
        <p:spPr>
          <a:xfrm>
            <a:off x="6073920" y="33274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4"/>
          <p:cNvSpPr/>
          <p:nvPr/>
        </p:nvSpPr>
        <p:spPr>
          <a:xfrm>
            <a:off x="1712880" y="391464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5"/>
          <p:cNvSpPr/>
          <p:nvPr/>
        </p:nvSpPr>
        <p:spPr>
          <a:xfrm>
            <a:off x="6073920" y="39146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10"/>
          <p:cNvGrpSpPr/>
          <p:nvPr/>
        </p:nvGrpSpPr>
        <p:grpSpPr>
          <a:xfrm>
            <a:off x="1928880" y="1500120"/>
            <a:ext cx="3506760" cy="882720"/>
            <a:chOff x="1928880" y="1500120"/>
            <a:chExt cx="3506760" cy="882720"/>
          </a:xfrm>
        </p:grpSpPr>
        <p:sp>
          <p:nvSpPr>
            <p:cNvPr id="1015" name="AutoShape 27"/>
            <p:cNvSpPr/>
            <p:nvPr/>
          </p:nvSpPr>
          <p:spPr>
            <a:xfrm>
              <a:off x="3124440" y="1585800"/>
              <a:ext cx="2311200" cy="785880"/>
            </a:xfrm>
            <a:prstGeom prst="wedgeRoundRectCallout">
              <a:avLst>
                <a:gd name="adj1" fmla="val -63430"/>
                <a:gd name="adj2" fmla="val 123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1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厘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Picture 2" descr="D:\我的文档-桌面-收藏夹\桌面\17.jpg"/>
            <p:cNvPicPr/>
            <p:nvPr/>
          </p:nvPicPr>
          <p:blipFill>
            <a:blip r:embed="rId8"/>
            <a:stretch/>
          </p:blipFill>
          <p:spPr>
            <a:xfrm>
              <a:off x="1928880" y="1500120"/>
              <a:ext cx="822240" cy="882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矩形 1"/>
          <p:cNvSpPr/>
          <p:nvPr/>
        </p:nvSpPr>
        <p:spPr>
          <a:xfrm>
            <a:off x="0" y="1500120"/>
            <a:ext cx="98488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在括号里填上厘米或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床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 书宽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  树高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2" descr="D:\我的文档-桌面-收藏夹\桌面\201110200184599.jpg"/>
          <p:cNvPicPr/>
          <p:nvPr/>
        </p:nvPicPr>
        <p:blipFill>
          <a:blip r:embed="rId1"/>
          <a:srcRect l="0" t="12547" r="0" b="0"/>
          <a:stretch/>
        </p:blipFill>
        <p:spPr>
          <a:xfrm>
            <a:off x="142920" y="2309760"/>
            <a:ext cx="3286080" cy="21560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3" descr="D:\我的文档-桌面-收藏夹\桌面\书.jpg"/>
          <p:cNvPicPr/>
          <p:nvPr/>
        </p:nvPicPr>
        <p:blipFill>
          <a:blip r:embed="rId2"/>
          <a:stretch/>
        </p:blipFill>
        <p:spPr>
          <a:xfrm>
            <a:off x="4424400" y="2476440"/>
            <a:ext cx="1308240" cy="1149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4" descr="D:\我的文档-桌面-收藏夹\桌面\树.jpg"/>
          <p:cNvPicPr/>
          <p:nvPr/>
        </p:nvPicPr>
        <p:blipFill>
          <a:blip r:embed="rId3"/>
          <a:stretch/>
        </p:blipFill>
        <p:spPr>
          <a:xfrm>
            <a:off x="6858000" y="2000160"/>
            <a:ext cx="1770120" cy="2052720"/>
          </a:xfrm>
          <a:prstGeom prst="rect">
            <a:avLst/>
          </a:prstGeom>
          <a:ln w="0">
            <a:noFill/>
          </a:ln>
        </p:spPr>
      </p:pic>
      <p:sp>
        <p:nvSpPr>
          <p:cNvPr id="1021" name="矩形 5"/>
          <p:cNvSpPr/>
          <p:nvPr/>
        </p:nvSpPr>
        <p:spPr>
          <a:xfrm>
            <a:off x="1357200" y="453060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6"/>
          <p:cNvSpPr/>
          <p:nvPr/>
        </p:nvSpPr>
        <p:spPr>
          <a:xfrm>
            <a:off x="3000240" y="450072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7"/>
          <p:cNvSpPr/>
          <p:nvPr/>
        </p:nvSpPr>
        <p:spPr>
          <a:xfrm>
            <a:off x="5491080" y="4500720"/>
            <a:ext cx="8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8"/>
          <p:cNvSpPr/>
          <p:nvPr/>
        </p:nvSpPr>
        <p:spPr>
          <a:xfrm>
            <a:off x="8215200" y="450072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26" name="圆角矩形 47" descr=""/>
            <p:cNvPicPr/>
            <p:nvPr/>
          </p:nvPicPr>
          <p:blipFill>
            <a:blip r:embed="rId4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7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28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9" name="椭圆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6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62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66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70" descr=""/>
              <p:cNvPicPr/>
              <p:nvPr/>
            </p:nvPicPr>
            <p:blipFill>
              <a:blip r:embed="rId10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36" name="图片 2" descr=""/>
          <p:cNvPicPr/>
          <p:nvPr/>
        </p:nvPicPr>
        <p:blipFill>
          <a:blip r:embed="rId11"/>
          <a:stretch/>
        </p:blipFill>
        <p:spPr>
          <a:xfrm>
            <a:off x="4210200" y="3581280"/>
            <a:ext cx="866520" cy="907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3" descr=""/>
          <p:cNvPicPr/>
          <p:nvPr/>
        </p:nvPicPr>
        <p:blipFill>
          <a:blip r:embed="rId12"/>
          <a:stretch/>
        </p:blipFill>
        <p:spPr>
          <a:xfrm>
            <a:off x="5484960" y="3565440"/>
            <a:ext cx="866520" cy="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3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41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9" name="矩形 1"/>
          <p:cNvSpPr/>
          <p:nvPr/>
        </p:nvSpPr>
        <p:spPr>
          <a:xfrm>
            <a:off x="0" y="692280"/>
            <a:ext cx="914400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将正确答案的序号填在（      ）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下面可以用来计量物体长度的单位是（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     ②角      ③分      ④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教学楼大约高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     ②厘米    ③分      ④元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一节课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）。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     ②分      ③元      ④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2"/>
          <p:cNvSpPr/>
          <p:nvPr/>
        </p:nvSpPr>
        <p:spPr>
          <a:xfrm>
            <a:off x="6588000" y="141300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3995640" y="256392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3059280" y="371628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组合 2"/>
          <p:cNvGrpSpPr/>
          <p:nvPr/>
        </p:nvGrpSpPr>
        <p:grpSpPr>
          <a:xfrm>
            <a:off x="-23760" y="46080"/>
            <a:ext cx="2843280" cy="525600"/>
            <a:chOff x="-23760" y="46080"/>
            <a:chExt cx="2843280" cy="525600"/>
          </a:xfrm>
        </p:grpSpPr>
        <p:pic>
          <p:nvPicPr>
            <p:cNvPr id="1054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04760" y="46080"/>
              <a:ext cx="2714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5" name="组合 4"/>
            <p:cNvGrpSpPr/>
            <p:nvPr/>
          </p:nvGrpSpPr>
          <p:grpSpPr>
            <a:xfrm>
              <a:off x="-23760" y="141120"/>
              <a:ext cx="375480" cy="273960"/>
              <a:chOff x="-23760" y="141120"/>
              <a:chExt cx="375480" cy="273960"/>
            </a:xfrm>
          </p:grpSpPr>
          <p:sp>
            <p:nvSpPr>
              <p:cNvPr id="1056" name="椭圆 52"/>
              <p:cNvSpPr/>
              <p:nvPr/>
            </p:nvSpPr>
            <p:spPr>
              <a:xfrm rot="16200000">
                <a:off x="207000" y="30960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49040" y="282960"/>
                <a:ext cx="202680" cy="12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椭圆 58"/>
              <p:cNvSpPr/>
              <p:nvPr/>
            </p:nvSpPr>
            <p:spPr>
              <a:xfrm rot="16200000">
                <a:off x="207000" y="18576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49040" y="157320"/>
                <a:ext cx="202680" cy="12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0960"/>
                <a:ext cx="30420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69640"/>
                <a:ext cx="30420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440"/>
                <a:ext cx="30420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04200" cy="111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4" name="矩形 2"/>
          <p:cNvSpPr/>
          <p:nvPr/>
        </p:nvSpPr>
        <p:spPr>
          <a:xfrm>
            <a:off x="324000" y="1052640"/>
            <a:ext cx="36432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读出下面的时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3" descr=""/>
          <p:cNvPicPr/>
          <p:nvPr/>
        </p:nvPicPr>
        <p:blipFill>
          <a:blip r:embed="rId8"/>
          <a:stretch/>
        </p:blipFill>
        <p:spPr>
          <a:xfrm>
            <a:off x="250920" y="1555920"/>
            <a:ext cx="8643960" cy="2887560"/>
          </a:xfrm>
          <a:prstGeom prst="rect">
            <a:avLst/>
          </a:prstGeom>
          <a:ln w="0">
            <a:noFill/>
          </a:ln>
        </p:spPr>
      </p:pic>
      <p:sp>
        <p:nvSpPr>
          <p:cNvPr id="1066" name="矩形 4"/>
          <p:cNvSpPr/>
          <p:nvPr/>
        </p:nvSpPr>
        <p:spPr>
          <a:xfrm>
            <a:off x="755640" y="42210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:0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5"/>
          <p:cNvSpPr/>
          <p:nvPr/>
        </p:nvSpPr>
        <p:spPr>
          <a:xfrm>
            <a:off x="3132000" y="4292640"/>
            <a:ext cx="114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6"/>
          <p:cNvSpPr/>
          <p:nvPr/>
        </p:nvSpPr>
        <p:spPr>
          <a:xfrm>
            <a:off x="5292720" y="4292640"/>
            <a:ext cx="1204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7"/>
          <p:cNvSpPr/>
          <p:nvPr/>
        </p:nvSpPr>
        <p:spPr>
          <a:xfrm>
            <a:off x="7380360" y="4292640"/>
            <a:ext cx="121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组合 2"/>
          <p:cNvGrpSpPr/>
          <p:nvPr/>
        </p:nvGrpSpPr>
        <p:grpSpPr>
          <a:xfrm>
            <a:off x="-23760" y="46080"/>
            <a:ext cx="2824200" cy="525600"/>
            <a:chOff x="-23760" y="46080"/>
            <a:chExt cx="2824200" cy="525600"/>
          </a:xfrm>
        </p:grpSpPr>
        <p:pic>
          <p:nvPicPr>
            <p:cNvPr id="1071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03680" y="46080"/>
              <a:ext cx="2696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组合 4"/>
            <p:cNvGrpSpPr/>
            <p:nvPr/>
          </p:nvGrpSpPr>
          <p:grpSpPr>
            <a:xfrm>
              <a:off x="-23760" y="141120"/>
              <a:ext cx="372960" cy="273960"/>
              <a:chOff x="-23760" y="141120"/>
              <a:chExt cx="372960" cy="273960"/>
            </a:xfrm>
          </p:grpSpPr>
          <p:sp>
            <p:nvSpPr>
              <p:cNvPr id="1073" name="椭圆 52"/>
              <p:cNvSpPr/>
              <p:nvPr/>
            </p:nvSpPr>
            <p:spPr>
              <a:xfrm rot="16200000">
                <a:off x="206640" y="30960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80" y="283680"/>
                <a:ext cx="20232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椭圆 58"/>
              <p:cNvSpPr/>
              <p:nvPr/>
            </p:nvSpPr>
            <p:spPr>
              <a:xfrm rot="16200000">
                <a:off x="206640" y="18612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6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880" y="157320"/>
                <a:ext cx="20232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1680"/>
                <a:ext cx="302040" cy="1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000"/>
                <a:ext cx="302040" cy="1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440"/>
                <a:ext cx="302040" cy="1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02040" cy="111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1" name="矩形 1"/>
          <p:cNvSpPr/>
          <p:nvPr/>
        </p:nvSpPr>
        <p:spPr>
          <a:xfrm>
            <a:off x="395280" y="1341360"/>
            <a:ext cx="36432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写出下面的时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3" descr="D:\我的文档-桌面-收藏夹\桌面\1.tif"/>
          <p:cNvPicPr/>
          <p:nvPr/>
        </p:nvPicPr>
        <p:blipFill>
          <a:blip r:embed="rId8"/>
          <a:srcRect l="0" t="0" r="0" b="11217"/>
          <a:stretch/>
        </p:blipFill>
        <p:spPr>
          <a:xfrm>
            <a:off x="611280" y="2205000"/>
            <a:ext cx="8042040" cy="2536920"/>
          </a:xfrm>
          <a:prstGeom prst="rect">
            <a:avLst/>
          </a:prstGeom>
          <a:ln w="0">
            <a:noFill/>
          </a:ln>
        </p:spPr>
      </p:pic>
      <p:sp>
        <p:nvSpPr>
          <p:cNvPr id="1083" name="矩形 5"/>
          <p:cNvSpPr/>
          <p:nvPr/>
        </p:nvSpPr>
        <p:spPr>
          <a:xfrm>
            <a:off x="826920" y="3860640"/>
            <a:ext cx="127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7"/>
          <p:cNvSpPr/>
          <p:nvPr/>
        </p:nvSpPr>
        <p:spPr>
          <a:xfrm>
            <a:off x="2987640" y="3860640"/>
            <a:ext cx="131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8"/>
          <p:cNvSpPr/>
          <p:nvPr/>
        </p:nvSpPr>
        <p:spPr>
          <a:xfrm>
            <a:off x="5292720" y="3860640"/>
            <a:ext cx="11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9"/>
          <p:cNvSpPr/>
          <p:nvPr/>
        </p:nvSpPr>
        <p:spPr>
          <a:xfrm>
            <a:off x="7380360" y="3860640"/>
            <a:ext cx="1274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9:14:00Z</dcterms:created>
  <dc:creator/>
  <dc:description/>
  <dc:language>en-US</dc:language>
  <cp:lastModifiedBy>万润仪器贸易公司</cp:lastModifiedBy>
  <dcterms:modified xsi:type="dcterms:W3CDTF">2020-08-21T00:45:32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